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C1862-11C4-4AD3-A4CC-C080CB13A311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36D14-EF7E-4ECD-800B-D792E08B50C2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31395-2D1A-4586-AD9C-66D3263136DC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53864-1D39-498D-8E7F-334C212859D2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79D28-EA08-4B07-8B8D-915EC5068893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4825C-9904-45FF-9BE8-2A746113F806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0302D-82EE-41EE-ADD1-CE2A581CE73D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5DA56-DED4-4CE8-9C99-B5D43DF6B65C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EFDDF-96E3-4CAB-99FC-403073B51D8B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1604E-B862-4E93-84B6-17ED4819D8B0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071CE-5879-4844-895C-E241003FCE28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1EF93-B3E3-40D0-8BEB-7062D2D40F16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AAD9F-8D5D-40E3-AB1F-F28E2C555C26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4E147-1C9C-4880-AB57-E9D598AD4DDB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E381D-9FB6-4EE6-8E39-FB69E7AE8D3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04823-FF1C-40AD-8A62-ABC5E7B3FE2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2EB76-B582-4B53-9365-4BA084FDD2DB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6175C-00CC-4EDE-9E1F-5F1E1621CD36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80393-CDCD-4C6E-B2C9-49307B28C71D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57CDE-4AF7-464E-BC31-C918F07D568D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E302D-EED0-4C3C-AF5C-BF4CC09189D5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C7E21-1FBD-4C6A-AD94-CAF0759E531B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10660-555E-4287-A090-F7D2C8608799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61D41-737D-4F8A-BF54-331F284BB54D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68F98-6F5C-4024-9AE4-074C50F7EE76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24709-0318-4BB6-AF6F-7D0A60E1D91A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B3693-E346-425C-AEE7-46F439D2845D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1AF89-FA04-4478-8334-FB9C73CDAA4C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B1481-E7AD-4953-8B59-57EF1DA797C7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F6E18-26F3-44A8-B104-BC49BBCBA957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2D7-936F-46BA-AFCA-66D97BED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9308-12EE-4CAA-A778-E7675239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66A5-431E-48DF-BF03-6BC5BB4D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19E-0D0A-416C-A647-5A90702A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8B80-909A-4DE8-9555-8D42E039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AA4A-73BA-42F3-8047-4A9870BF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560-0256-4A7B-82E5-AFB9A8D5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6B0-0CF8-463C-B948-9E4DE33B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035-76B4-413E-A6D6-4A6AC622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8248-058C-49DE-A853-13C7A8C0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3131-CF97-41C8-93B4-42C3A7E2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9E7-6F55-4151-ADFF-6A2B7617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1BFB73-A32C-470C-AAF7-7248BC32AD1D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bosch.de/" TargetMode="External"/><Relationship Id="rId2" Type="http://schemas.openxmlformats.org/officeDocument/2006/relationships/hyperlink" Target="http://www.wikipedia.org/wiki/Rekuperationsbremse" TargetMode="External"/><Relationship Id="rId3" Type="http://schemas.openxmlformats.org/officeDocument/2006/relationships/hyperlink" Target="http://www.varta.de/" TargetMode="External"/><Relationship Id="rId4" Type="http://schemas.openxmlformats.org/officeDocument/2006/relationships/hyperlink" Target="http://www.wikipedia.org/wiki/Bleiakkumulator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24177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                                                           Datum: 06.05.2011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Bremsenergierückgewinnung</a:t>
            </a:r>
            <a:br>
              <a:rPr sz="1800"/>
            </a:br>
            <a:br>
              <a:rPr sz="1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979640"/>
            <a:ext cx="1008072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Datum: 06.05.2011                                                   6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Zwei Konzep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3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19630d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Bei konventionellen Ver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brennungsmotor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Energie wird gescho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Ladezustand der Batter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wird überwacht und ggf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gelad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19630d"/>
                </a:solidFill>
                <a:latin typeface="Arial"/>
              </a:rPr>
              <a:t>2.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Beim Hybridsystem.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Energie wird zurück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gewonn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Energie kann in eine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Zwischenspeicher bzw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Akku transferiert werd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    Datum: 06.05.2011                                            7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Vorteile der Rekupe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751040"/>
            <a:ext cx="9070920" cy="70689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Times New Roman"/>
              </a:rPr>
              <a:t>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Times New Roman"/>
              </a:rPr>
              <a:t>Geringerer Kraftstoffverbrauch(3%), weniger </a:t>
            </a:r>
            <a:r>
              <a:rPr b="0" lang="en-US" sz="2600" spc="-1" strike="noStrike">
                <a:solidFill>
                  <a:srgbClr val="19630d"/>
                </a:solidFill>
                <a:latin typeface="Times New Roman"/>
              </a:rPr>
              <a:t>CO</a:t>
            </a:r>
            <a:r>
              <a:rPr b="0" lang="en-US" sz="2600" spc="-1" strike="noStrike" baseline="-19000">
                <a:solidFill>
                  <a:srgbClr val="19630d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 baseline="-19000">
                <a:solidFill>
                  <a:srgbClr val="19630d"/>
                </a:solidFill>
                <a:latin typeface="Times New Roman"/>
              </a:rPr>
              <a:t>Mehr Antriebskraft beim Beschleuni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 baseline="-19000">
                <a:solidFill>
                  <a:srgbClr val="19630d"/>
                </a:solidFill>
                <a:latin typeface="Times New Roman"/>
              </a:rPr>
              <a:t>Motorbremsfunktion, dadurch weniger Verschleiß v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 baseline="-19000">
                <a:solidFill>
                  <a:srgbClr val="19630d"/>
                </a:solidFill>
                <a:latin typeface="Times New Roman"/>
              </a:rPr>
              <a:t>Getriebe; weniger Verschleiß der Bremsbelä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 baseline="-19000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Datum: 06.05.2011                                                8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Wie viel Kraftstoff benötigt der Generat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47280" y="9000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Es soll der Kraftstoffverbrauch auf 100km errechnet werden, der durch den Generator entste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Geg: U = 12V ; I = 65A; η = 0,9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Ges:  W in kWh / 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P in kW </a:t>
            </a:r>
            <a:r>
              <a:rPr b="0" lang="de-DE" sz="2600" spc="-1" strike="noStrike">
                <a:solidFill>
                  <a:srgbClr val="19630d"/>
                </a:solidFill>
                <a:latin typeface="Swis721 LtCn BT"/>
              </a:rPr>
              <a:t>· 1h = Arbeit in kW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Swis721 LtCn BT"/>
              </a:rPr>
              <a:t>Hinweis: 1l / 100km ≙ 10kWh/ 100k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720720" y="5219640"/>
          <a:ext cx="8999640" cy="234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19640"/>
                    <a:ext cx="899964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192240"/>
            <a:ext cx="907092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Datum: 06.05.2011                                                 9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de-DE" sz="3600" spc="-1" strike="noStrike" u="sng">
                <a:solidFill>
                  <a:srgbClr val="ffffff"/>
                </a:solidFill>
                <a:uFillTx/>
                <a:latin typeface="Arial"/>
              </a:rPr>
              <a:t>Lösung</a:t>
            </a: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895640" cy="5407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23ff23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P</a:t>
            </a:r>
            <a:r>
              <a:rPr b="0" lang="de-DE" sz="2600" spc="-1" strike="noStrike" baseline="-42000">
                <a:solidFill>
                  <a:srgbClr val="19630d"/>
                </a:solidFill>
                <a:latin typeface="Arial"/>
              </a:rPr>
              <a:t>aufgenommen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 = 1351W/ 0,9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P</a:t>
            </a:r>
            <a:r>
              <a:rPr b="0" lang="de-DE" sz="2600" spc="-1" strike="noStrike" baseline="-42000">
                <a:solidFill>
                  <a:srgbClr val="19630d"/>
                </a:solidFill>
                <a:latin typeface="Arial"/>
              </a:rPr>
              <a:t>aufgenommen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 = 1501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W= 1,501kW · 1 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W= 1,501kW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1,501kWh = 0,1501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580000" y="2518920"/>
            <a:ext cx="40672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 u="sng">
                <a:solidFill>
                  <a:srgbClr val="19630d"/>
                </a:solidFill>
                <a:uFillTx/>
                <a:latin typeface="Arial"/>
              </a:rPr>
              <a:t>Schlusssatz: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Durch den Generator wird auf einer Strecke von 100km ca. </a:t>
            </a:r>
            <a:r>
              <a:rPr b="0" lang="de-DE" sz="2600" spc="-1" strike="noStrike" u="sng">
                <a:solidFill>
                  <a:srgbClr val="19630d"/>
                </a:solidFill>
                <a:uFillTx/>
                <a:latin typeface="Arial"/>
              </a:rPr>
              <a:t>150ml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 mehr verbraucht, unter Vernachlässigung der          Reibungsverluste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220320"/>
            <a:ext cx="907092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Datum: 06.05.2011                                               10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Warum verbraucht ein Fahrzeug ohne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ohne Rekuperation mehr?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18920" y="1800000"/>
            <a:ext cx="68403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Durch den dauerhaften Antrieb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des Generators muss der Motor de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Widerstand (das Magnetfeld) überwin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und gibt damit einen Tei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seiner Leistung ab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Dies hat einen höheren Kraftstoffverbrauch zur Folg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Datum: 06.05.2011                                                 11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Der Wider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Der Widerstand ist das Resultat v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verschiedenen Verlus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Reibungsverluste( Kollektor, Schleifrin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Wicklungsverluste( Wirbelstromverlus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Magnetisierungsverluste( entstehende Wärme durch ständiges Ummagnetisiere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1"/>
          <p:cNvSpPr/>
          <p:nvPr/>
        </p:nvSpPr>
        <p:spPr>
          <a:xfrm>
            <a:off x="-179280" y="-179280"/>
            <a:ext cx="10439280" cy="79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VARTA_FINALRENDER_GERMAN_01.wmv" descr=""/>
          <p:cNvPicPr/>
          <p:nvPr/>
        </p:nvPicPr>
        <p:blipFill>
          <a:blip r:embed="rId1"/>
          <a:stretch/>
        </p:blipFill>
        <p:spPr>
          <a:xfrm>
            <a:off x="0" y="17640"/>
            <a:ext cx="10080720" cy="757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Datum: 06.05.2011                                                  13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Bestandteile eines Rekuperations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690200"/>
            <a:ext cx="9720360" cy="586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Motormanagem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Motorsteuergerät mit integrierter Generatorregelung 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E-Gaspedal mit Schuberkenn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Batteriemanagem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Batteriesensor mit integriertem Steuergerät und e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speziellen AGM-Batte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Multifunktionsregler</a:t>
            </a: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am Generator mit Anbindung zum Can-B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Datum: 06.05.2011                                              14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Vernetzung des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440000"/>
            <a:ext cx="9070920" cy="692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Der Datentransfer bei der Rekuperation verläuft mit d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CAN-BUS Syste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CAN bedeutet Controller Area Net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Es besteht aus zwei Datenleitungen(CAN-High; CAN-Low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Funktioniert nach dem Master-Slave Prinz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Es werden weniger Kabelstränge und Sensoren benötig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Datum: 06.05.2011                                                 15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CAN-Datenb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40000" y="1800360"/>
            <a:ext cx="7380000" cy="4679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60000" y="6672240"/>
            <a:ext cx="381636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Quelle: kfz-tech.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 Fochler       Klasse:  FOS-T                                                           Datum: 06.05.2011                             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Inhaltsverzeichn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406520"/>
            <a:ext cx="907092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Die Emissionen                              6. Zwei Konzepte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 Ein Problem                                    7. Vorteile der Reku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 Ein Lösungsansatz?                       8. Wie viel Kraftstoff benötigt 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era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 Die Idee                                           9. Lösu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. Rekuperation beim Kfz                  10. Warum verbraucht ein Fahrzeu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hne Rekuperation meh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Datum: 06.05.2011                                                16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de-DE" sz="3600" spc="-1" strike="noStrike" u="sng">
                <a:solidFill>
                  <a:srgbClr val="ffffff"/>
                </a:solidFill>
                <a:uFillTx/>
                <a:latin typeface="Arial"/>
              </a:rPr>
              <a:t>Das Batterie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Während der Fahrt laufende Kontrolle der Batteri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spannung und Ladeaktivitä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Bei Bedarf erhöht das System di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Leerlaufdrehzahl geringfügig um die Leist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s Ladegenerators zu erhöh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In extremen Fällen werden kurzzeitig beson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verbrauchsintensive Komponenten deaktivi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r Komfort leidet darunter nic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7199280" y="2879640"/>
            <a:ext cx="251928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Datum: 06.05.2011                                                   17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de-DE" sz="3600" spc="-1" strike="noStrike" u="sng">
                <a:solidFill>
                  <a:srgbClr val="ffffff"/>
                </a:solidFill>
                <a:uFillTx/>
                <a:latin typeface="Arial"/>
              </a:rPr>
              <a:t>Der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de-DE" sz="3600" spc="-1" strike="noStrike" u="sng">
                <a:solidFill>
                  <a:srgbClr val="ffffff"/>
                </a:solidFill>
                <a:uFillTx/>
                <a:latin typeface="Arial"/>
              </a:rPr>
              <a:t>Batteriesensor/ Steuergerä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5151600" y="2600280"/>
            <a:ext cx="4425840" cy="33242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wird</a:t>
            </a:r>
            <a:r>
              <a:rPr b="0" lang="de-DE" sz="3200" spc="-1" strike="noStrike">
                <a:solidFill>
                  <a:srgbClr val="19630d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am Minuspol befestig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Permanente Bewertung des aktuellen Ladezust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Analysiert vollgende Wer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Batteriespannung, -strom und -temperat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überprüft auch den Ruhest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Steuergerät integri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Datum: 06.05.2011                                               18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de-DE" sz="3600" spc="-1" strike="noStrike" u="sng">
                <a:solidFill>
                  <a:srgbClr val="ffffff"/>
                </a:solidFill>
                <a:uFillTx/>
                <a:latin typeface="Arial"/>
              </a:rPr>
              <a:t>Schaltplan des BM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0" y="1619280"/>
            <a:ext cx="10080720" cy="59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Datum: 06.05.2011                                                 19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Batterie mit AGM-Technolo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360" y="1800360"/>
            <a:ext cx="9286920" cy="241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AGM bedeutet Absorbent Glass 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Elekrolyt ist in einem Vlies aus Glasfasern gebun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höhere Zyklenfestigkeit im Vergleich zu traditionellen Batteri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r Verlust des aktiven Materials wird so weit wi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möglich reduzi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079640" y="3959280"/>
            <a:ext cx="828036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253800"/>
            <a:ext cx="9070920" cy="13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Mark Fochler       Klasse:  FOS-T      Datum:06.05.2011                                            20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               </a:t>
            </a:r>
            <a:r>
              <a:rPr b="1" lang="de-DE" sz="3600" spc="-1" strike="noStrike" u="sng">
                <a:solidFill>
                  <a:srgbClr val="ffffff"/>
                </a:solidFill>
                <a:uFillTx/>
                <a:latin typeface="Century Gothic"/>
              </a:rPr>
              <a:t>Intelligente Generatorregelung</a:t>
            </a: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de-DE" sz="1600" spc="-1" strike="noStrike">
                <a:solidFill>
                  <a:srgbClr val="ff3300"/>
                </a:solidFill>
                <a:latin typeface="Arial"/>
              </a:rPr>
              <a:t>Verzögerungsphas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19630d"/>
                </a:solidFill>
                <a:latin typeface="Arial"/>
              </a:rPr>
              <a:t>Bei einer Verzögerung regelt der Generator auf Befehl des Motor-Steuergeräts seine Ladespannung auf 14 V wie bei einem herkömmlichen Generator, um der Motor-Bremswirkung Vorrang zu gebe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19630d"/>
                </a:solidFill>
                <a:latin typeface="Arial"/>
              </a:rPr>
              <a:t>&gt; Generator-Belastung</a:t>
            </a:r>
            <a:r>
              <a:rPr b="1" lang="de-DE" sz="1600" spc="-1" strike="noStrike">
                <a:solidFill>
                  <a:srgbClr val="23ff23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de-DE" sz="1600" spc="-1" strike="noStrike">
                <a:solidFill>
                  <a:srgbClr val="ff3300"/>
                </a:solidFill>
                <a:latin typeface="Arial"/>
              </a:rPr>
              <a:t>Beschleunigungsphas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19630d"/>
                </a:solidFill>
                <a:latin typeface="Arial"/>
              </a:rPr>
              <a:t>Bei einer Beschleunigung regelt der Generator auf Befehl des Motor-Steuergeräts seine Ladespannung auf einem niedrigeren Wert, also 13,2 V, um das Widerstandsmoment am Motor zu verringern und den Kraftstoffverbrauch zu senke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19630d"/>
                </a:solidFill>
                <a:latin typeface="Arial"/>
              </a:rPr>
              <a:t>&gt; Generator-Entlastung</a:t>
            </a:r>
            <a:r>
              <a:rPr b="1" lang="de-DE" sz="1600" spc="-1" strike="noStrike">
                <a:solidFill>
                  <a:srgbClr val="23ff23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de-DE" sz="1600" spc="-1" strike="noStrike">
                <a:solidFill>
                  <a:srgbClr val="ff3300"/>
                </a:solidFill>
                <a:latin typeface="Arial"/>
              </a:rPr>
              <a:t>Stabilisierter Betrie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19630d"/>
                </a:solidFill>
                <a:latin typeface="Arial"/>
              </a:rPr>
              <a:t>Bei stabilisierter Drehzahl regelt der Generator auf Befehl des Motor-Steuergeräts seine Ladespannung auf einen Zwischenwert, also 13,5 V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5724360" y="167940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Die IGR-Funktion ist 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Software, in der DME/D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integrie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In der Systemübers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sind die beteilig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Komponenten dargestell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39640" y="3125880"/>
            <a:ext cx="5040360" cy="33541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611360" y="185112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400" spc="-1" strike="noStrike">
                <a:solidFill>
                  <a:srgbClr val="19630d"/>
                </a:solidFill>
                <a:latin typeface="Arial"/>
                <a:ea typeface="MS Gothic"/>
              </a:rPr>
              <a:t>Bit serielle 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348000" y="357336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MS Gothic"/>
              </a:rPr>
              <a:t>Ladezustand der Batte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"/>
          <p:cNvSpPr/>
          <p:nvPr/>
        </p:nvSpPr>
        <p:spPr>
          <a:xfrm flipH="1" flipV="1">
            <a:off x="3130560" y="2418840"/>
            <a:ext cx="866880" cy="938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665680" y="3556080"/>
          <a:ext cx="3044880" cy="3043080"/>
        </p:xfrm>
        <a:graphic>
          <a:graphicData uri="http://schemas.openxmlformats.org/drawingml/2006/table">
            <a:tbl>
              <a:tblPr/>
              <a:tblGrid>
                <a:gridCol w="792360"/>
                <a:gridCol w="2252520"/>
              </a:tblGrid>
              <a:tr h="380880"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IN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ERKLÄR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Gener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Motorsteuerung (DME/DD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Intelligenter Batteriesensor I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Fahrzeugbatt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Verbraucher im Fahrze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R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Energiefluss im Fahrze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Bl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Informationsfluss im Fahrze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299520"/>
            <a:ext cx="90709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Mark Fochler       Klasse:  FOS-T      Datum:06.05.2011                                            21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                                        </a:t>
            </a:r>
            <a:r>
              <a:rPr b="1" lang="de-DE" sz="3200" spc="-1" strike="noStrike" u="sng">
                <a:solidFill>
                  <a:srgbClr val="ffffff"/>
                </a:solidFill>
                <a:uFillTx/>
                <a:latin typeface="Century Gothic"/>
              </a:rPr>
              <a:t>IGR Übersicht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253800"/>
            <a:ext cx="9070920" cy="13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Mark Fochler       Klasse:  FOS-T     Datum:06.05.2011                                             22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</a:t>
            </a:r>
            <a:r>
              <a:rPr b="1" lang="de-DE" sz="2800" spc="-1" strike="noStrike" u="sng">
                <a:solidFill>
                  <a:srgbClr val="ffffff"/>
                </a:solidFill>
                <a:uFillTx/>
                <a:latin typeface="Century Gothic"/>
              </a:rPr>
              <a:t>Laderegelung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20360" y="1800000"/>
            <a:ext cx="8675640" cy="62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Bei Fahrzeugen ohne Rekuperation soll die Ladespan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konstant sein, denn der Bleiakkumulator verkraftet ke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großen Ladespannungsschwankung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Die Ausgangsspannung ist stark drehzahl,- und last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abhängi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Ein Laderegler steuert über die Erregerspannung den Strom und damit die magnetische Feldstärke so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dass die Ladespannung konstant i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2920" y="253800"/>
            <a:ext cx="9070920" cy="13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Mark Fochler       Klasse:  FOS-T     Datum:06.05.2011                                             23 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                                       </a:t>
            </a:r>
            <a:r>
              <a:rPr b="1" lang="de-DE" sz="2800" spc="-1" strike="noStrike" u="sng">
                <a:solidFill>
                  <a:srgbClr val="ffffff"/>
                </a:solidFill>
                <a:uFillTx/>
                <a:latin typeface="Century Gothic"/>
              </a:rPr>
              <a:t>Multifunktionsregler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39956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Der Regler steuert d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Erregerstro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besitzt keine Erregerdioden meh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Er wird vom Steuergerä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mit Impulsen angetakt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Das Tastverhältnis ist ein Maß für den Auslastungs-grad des Generator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4680000" y="1800360"/>
            <a:ext cx="489888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6560" y="301320"/>
            <a:ext cx="90712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Mark Fochler       Klasse:  FOS-T      Datum:06.05.2011                                            24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</a:t>
            </a:r>
            <a:r>
              <a:rPr b="1" lang="de-DE" sz="3600" spc="-1" strike="noStrike" u="sng">
                <a:solidFill>
                  <a:srgbClr val="ffffff"/>
                </a:solidFill>
                <a:uFillTx/>
                <a:latin typeface="Century Gothic"/>
              </a:rPr>
              <a:t>Lückentext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68000" y="1460520"/>
            <a:ext cx="907092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Das regenerative Bremsen, auch _____ genannt, ist ein rein ______ System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welches in der Lage ist den Kraftstoffverbrauch um ca. __% zu senk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Es besteht aus einem _______, einer intelligenten Generatorregelung u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einer  speziellen 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Das _______ kann den Ladezustand der Batterie analytisch ermitteln u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ist über das______ System mit dem Motormanagement vernetz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Daraufhin kann die Generatorregelung, die im _______ integriert ist reagier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Ist der vom Fahrzeughersteller  definierte Ladezustand erreicht, wird di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_______ herabgesetzt und das _________ am Motor sink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Es wird Kraftstoff gespar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Ist der Soll-Ladezustand nicht erreicht  und es herrscht keine Bremsphase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dann wird die Ladespannung auf einen Mittelwert von ____V  geregel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Ist eine Bremsphase vorhanden, dann wird verstärkt mit ____V geladen</a:t>
            </a:r>
            <a:r>
              <a:rPr b="1" lang="de-DE" sz="1800" spc="-1" strike="noStrike">
                <a:solidFill>
                  <a:srgbClr val="23ff23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Datum: 06.05.2011                                                    25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En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19630d"/>
                </a:solidFill>
                <a:latin typeface="Arial"/>
              </a:rPr>
              <a:t>Vielen Dank für Ihre Aufmerksamke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3200" spc="-1" strike="noStrike">
                <a:solidFill>
                  <a:srgbClr val="19630d"/>
                </a:solidFill>
                <a:latin typeface="Arial"/>
              </a:rPr>
              <a:t>Quellenangab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www.bosch.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wikipedia.org/wiki/Rekuperationsbrem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varta.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wikipedia.org/wiki/Bleiakkumul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000" spc="-1" strike="noStrike">
                <a:solidFill>
                  <a:srgbClr val="19630d"/>
                </a:solidFill>
                <a:latin typeface="Arial"/>
              </a:rPr>
              <a:t>Europa Fachkunde Buch 28te Aufl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 Fochler       Klasse:  FOS-T                                                           Datum: 06.05.2011                             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Inhaltsverzeichn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941400"/>
            <a:ext cx="9070920" cy="7262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1. Der Widerstand                             16. Das Batterie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2. Film Varta AG                                17. Der Batteriesensor/ Steuergerä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3. Bestandteile eines                         18. Schaltplan des B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kuperations- systems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4. Vernetzung des Systems             19. Batterie mit AGM-Technolog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. CAN-Datenbus                              20. Intelligente Generatorregelung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 Fochler       Klasse:  FOS-T                                                           Datum: 06.05.2011                             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Inhaltsverzeichn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762120"/>
            <a:ext cx="9070920" cy="801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1. IGR Übersicht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2. Laderegelung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3. Multifunktionsregler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4. Zusammenfassung als Lücken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5. Ende der Präsentation und die Quellenangaben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141120"/>
            <a:ext cx="9070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   Datum: 06.05.2011                                             1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Die Emissionen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02920" y="1812600"/>
            <a:ext cx="9070920" cy="57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Quelle:focus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1440000"/>
            <a:ext cx="10080720" cy="504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178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Datum: 06.05.2011                                                 2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Ein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8000" y="1387080"/>
            <a:ext cx="907092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Ein Kfz hat einen nur sehr geringen Wirkungsgr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r thermische Wirkungsgrad ei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Otto-Motors liegt bei nur ca. 35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ieser Wirkungsgrad wird im Anschlu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ann nochmals durch 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Reibungsverluste gemind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Man spricht hier v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m mechanischen Wirkungsgr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ie hohen Verluste haben ein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hohen, unnöti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Kraftstoffverbrauch zur Folge!</a:t>
            </a: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Datum: 06.05.2011                                                   3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Ein Lösungsansatz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342040" y="1768320"/>
            <a:ext cx="4046400" cy="4989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0" y="1979640"/>
            <a:ext cx="51912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Man verringert die Widerstä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beim Kfz, indem man die  Zeit w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sie auftreten verkürz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bzw. entfallen läs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ies soll beim                  elektrischen Widerstand  im Generator gescheh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5640" y="58680"/>
            <a:ext cx="90712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Datum: 06.05.2011                                                 4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Die Idee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219640" y="1800360"/>
            <a:ext cx="4500720" cy="216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5219640" y="4140360"/>
            <a:ext cx="4500720" cy="2879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03280" y="1714320"/>
            <a:ext cx="453528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r Generator und die Kühlmittelpumpe eines Kfz werden angetrieben, sobald der Motor läuf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ie beiden Aggregate laufen ununterbrochen mi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Es wäre sinnvoll die Pumpe und den Generator nur an der Bewegungsenergie des Motors teilnehmen zulass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wenn sie denn auch benötigt werd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       Datum: 06.05.2011                                         5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Rekuperation beim Kf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Es handelt sich um ein System bei einem Kfz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welches in der Lage ist, anhand von aufgenommenen Eingangsgrößen eine Regelung vorzuneh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Diese Regelung bezieht sich auf die Verzögerungsphasen des Fahrzeu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und kann die „Bremsung“ nutzen, um Energi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in Form von elektrischen Strom zurückzugewinnen.</a:t>
            </a: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19630d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720720" y="4699080"/>
            <a:ext cx="8739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6:54:57Z</dcterms:created>
  <dc:creator/>
  <dc:description>Präsentationshintergrund Vorlage</dc:description>
  <dc:language>en-US</dc:language>
  <cp:lastModifiedBy>Mark</cp:lastModifiedBy>
  <dcterms:modified xsi:type="dcterms:W3CDTF">2011-05-05T13:32:56Z</dcterms:modified>
  <cp:revision>103</cp:revision>
  <dc:subject/>
  <dc:title>Blau und Grau</dc:title>
</cp:coreProperties>
</file>